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26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  <p:sldId id="294" r:id="rId70"/>
    <p:sldId id="295" r:id="rId71"/>
    <p:sldId id="296" r:id="rId72"/>
    <p:sldId id="297" r:id="rId73"/>
    <p:sldId id="298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slide" Target="slides/slide39.xml"/><Relationship Id="rId71" Type="http://schemas.openxmlformats.org/officeDocument/2006/relationships/slide" Target="slides/slide40.xml"/><Relationship Id="rId72" Type="http://schemas.openxmlformats.org/officeDocument/2006/relationships/slide" Target="slides/slide41.xml"/><Relationship Id="rId73" Type="http://schemas.openxmlformats.org/officeDocument/2006/relationships/slide" Target="slides/slide42.xml"/><Relationship Id="rId74" Type="http://schemas.openxmlformats.org/officeDocument/2006/relationships/slide" Target="slides/slide43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924D-BCC1-4956-9A21-619DD24031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F4CD-3ED5-476C-A1BA-F55CC77142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22C-99AA-4C15-AE39-3AECC17A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2B8-82EB-43A0-9AA3-3101E23E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841-FF4E-4EF4-8C7B-41A38007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DA5-0D54-45DC-86B0-EC3825D3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FFC-03C8-4CAD-AC07-374ADC62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BBA-C726-47EA-AC19-6BFFC25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9A95-DB56-4B63-8303-73F00615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4FBE-A88F-4426-9B38-1FCE210D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9726-A773-4AB9-9C47-55F2FE68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B050-B2FB-4299-81AA-8CAB9C47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46FC-04BC-4CB9-BF04-6C7230C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9318-08DB-4000-B1B4-25AE21F6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97D5-960F-48D3-971E-CBA2D89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9EB9-177B-4DF8-AD84-2CC3A488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CD42-1CCD-4396-96F5-B70CABC2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A4EC-0C0D-444C-9D09-469D3C48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DC2E-6E4E-44E8-B541-0DCFB8E7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DEB8-82DB-4D9C-BB23-C47E57EB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3DD-F043-407F-9663-20A30F0B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571-28F7-48D0-AE48-7E2E3E0B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2B9-1A63-466E-9C9D-52352CA2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991-01DE-43C9-A131-26ADEFD4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2FB-4FF4-4186-BC18-BF1B4161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161-4E8D-4744-8EFC-54A53195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D342-84B9-4007-8D91-3911BAD4CC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370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71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411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412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452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453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493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494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534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535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575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576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616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617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657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658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698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699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739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740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42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43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780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781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821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822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862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863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903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904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944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945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985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986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064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065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105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106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4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May 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6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BD91-DE7A-4CC7-B073-16E302126BB1}" type="slidenum"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83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84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25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65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66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206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207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247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288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289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329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30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979C-7FE8-44D6-A754-8ADA850C19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CasellaDiTesto 2"/>
          <p:cNvSpPr/>
          <p:nvPr/>
        </p:nvSpPr>
        <p:spPr>
          <a:xfrm>
            <a:off x="567360" y="3429000"/>
            <a:ext cx="81694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rancesco Menichetti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fessor of Infectious Diseases, University of 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rector, Infectious Diseases Department, Cisanello Hospital, 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sident, Italian Group for Antimicrobial Stewardship (GI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itolo 1"/>
          <p:cNvSpPr/>
          <p:nvPr/>
        </p:nvSpPr>
        <p:spPr>
          <a:xfrm>
            <a:off x="539640" y="692280"/>
            <a:ext cx="822960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 nuovi antibiotici per la chemioterapia di precisione nella terapia delle infezioni da gram-negativi MD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Shape 218" descr="Shape 218"/>
          <p:cNvPicPr/>
          <p:nvPr/>
        </p:nvPicPr>
        <p:blipFill>
          <a:blip r:embed="rId1"/>
          <a:stretch/>
        </p:blipFill>
        <p:spPr>
          <a:xfrm>
            <a:off x="7020000" y="5157720"/>
            <a:ext cx="1787400" cy="1295640"/>
          </a:xfrm>
          <a:prstGeom prst="rect">
            <a:avLst/>
          </a:prstGeom>
          <a:ln w="0">
            <a:noFill/>
          </a:ln>
        </p:spPr>
      </p:pic>
      <p:sp>
        <p:nvSpPr>
          <p:cNvPr id="1197" name="CasellaDiTesto 2"/>
          <p:cNvSpPr/>
          <p:nvPr/>
        </p:nvSpPr>
        <p:spPr>
          <a:xfrm>
            <a:off x="1884960" y="5805360"/>
            <a:ext cx="436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www.antimicrobialstewardship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2627280" y="333360"/>
            <a:ext cx="417672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ERINO tr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Immagine 1" descr=""/>
          <p:cNvPicPr/>
          <p:nvPr/>
        </p:nvPicPr>
        <p:blipFill>
          <a:blip r:embed="rId1"/>
          <a:stretch/>
        </p:blipFill>
        <p:spPr>
          <a:xfrm>
            <a:off x="4559400" y="3416400"/>
            <a:ext cx="12600" cy="25200"/>
          </a:xfrm>
          <a:prstGeom prst="rect">
            <a:avLst/>
          </a:prstGeom>
          <a:ln w="0">
            <a:noFill/>
          </a:ln>
        </p:spPr>
      </p:pic>
      <p:pic>
        <p:nvPicPr>
          <p:cNvPr id="1232" name="Immagine 8" descr=""/>
          <p:cNvPicPr/>
          <p:nvPr/>
        </p:nvPicPr>
        <p:blipFill>
          <a:blip r:embed="rId2"/>
          <a:stretch/>
        </p:blipFill>
        <p:spPr>
          <a:xfrm>
            <a:off x="6300720" y="6534000"/>
            <a:ext cx="2590920" cy="317520"/>
          </a:xfrm>
          <a:prstGeom prst="rect">
            <a:avLst/>
          </a:prstGeom>
          <a:ln w="0">
            <a:noFill/>
          </a:ln>
        </p:spPr>
      </p:pic>
      <p:pic>
        <p:nvPicPr>
          <p:cNvPr id="1233" name="Immagine 2" descr=""/>
          <p:cNvPicPr/>
          <p:nvPr/>
        </p:nvPicPr>
        <p:blipFill>
          <a:blip r:embed="rId3"/>
          <a:stretch/>
        </p:blipFill>
        <p:spPr>
          <a:xfrm>
            <a:off x="0" y="119700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1234" name="Immagine 3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07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 txBox="1"/>
          <p:nvPr/>
        </p:nvSpPr>
        <p:spPr>
          <a:xfrm>
            <a:off x="468360" y="1844640"/>
            <a:ext cx="8229600" cy="467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o difference between the two groups regarding subsequent infections of drug-resistant bacteria or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. difficil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but difference in mortality rate was significant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wenty-three patients (12.3%) treated with pip-tazo died by the 30-day mark compared with seven patients (3.7%) who had been treated with meropen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he results of the MERINO trial make clear that piperacillin-tazobactam should no longer be considered an alternative to meropenem for definitive treatment of bloodstream infection due to ceftriaxone-resistant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 col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K pneumonia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6" name="Immagine 4" descr=""/>
          <p:cNvPicPr/>
          <p:nvPr/>
        </p:nvPicPr>
        <p:blipFill>
          <a:blip r:embed="rId1"/>
          <a:stretch/>
        </p:blipFill>
        <p:spPr>
          <a:xfrm>
            <a:off x="6300720" y="6381720"/>
            <a:ext cx="2590920" cy="317520"/>
          </a:xfrm>
          <a:prstGeom prst="rect">
            <a:avLst/>
          </a:prstGeom>
          <a:ln w="0">
            <a:noFill/>
          </a:ln>
        </p:spPr>
      </p:pic>
      <p:pic>
        <p:nvPicPr>
          <p:cNvPr id="1237" name="Immagine 6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The domino effect of the ESBL pandemic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39" name="CasellaDiTesto 3"/>
          <p:cNvSpPr/>
          <p:nvPr/>
        </p:nvSpPr>
        <p:spPr>
          <a:xfrm>
            <a:off x="4210560" y="1773360"/>
            <a:ext cx="454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issemination of Ente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roducing ESB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CasellaDiTesto 4"/>
          <p:cNvSpPr/>
          <p:nvPr/>
        </p:nvSpPr>
        <p:spPr>
          <a:xfrm>
            <a:off x="4880160" y="3645000"/>
            <a:ext cx="38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arbapenem Over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CasellaDiTesto 5"/>
          <p:cNvSpPr/>
          <p:nvPr/>
        </p:nvSpPr>
        <p:spPr>
          <a:xfrm>
            <a:off x="5106240" y="4869000"/>
            <a:ext cx="304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issemin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arbapenem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Gram-neg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ccia giù 7"/>
          <p:cNvSpPr/>
          <p:nvPr/>
        </p:nvSpPr>
        <p:spPr>
          <a:xfrm>
            <a:off x="6221520" y="2887560"/>
            <a:ext cx="822240" cy="8226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ccia giù 8"/>
          <p:cNvSpPr/>
          <p:nvPr/>
        </p:nvSpPr>
        <p:spPr>
          <a:xfrm>
            <a:off x="6227640" y="4221000"/>
            <a:ext cx="824040" cy="822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Immagine 11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552920" cy="3031920"/>
          </a:xfrm>
          <a:prstGeom prst="rect">
            <a:avLst/>
          </a:prstGeom>
          <a:ln w="0">
            <a:noFill/>
          </a:ln>
        </p:spPr>
      </p:pic>
      <p:sp>
        <p:nvSpPr>
          <p:cNvPr id="1245" name="CasellaDiTesto 2"/>
          <p:cNvSpPr/>
          <p:nvPr/>
        </p:nvSpPr>
        <p:spPr>
          <a:xfrm>
            <a:off x="982800" y="623736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dea: Gianni Rossol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AutoShape 8"/>
          <p:cNvSpPr/>
          <p:nvPr/>
        </p:nvSpPr>
        <p:spPr>
          <a:xfrm>
            <a:off x="873000" y="2057400"/>
            <a:ext cx="7297920" cy="3048120"/>
          </a:xfrm>
          <a:prstGeom prst="bevel">
            <a:avLst>
              <a:gd name="adj" fmla="val 12500"/>
            </a:avLst>
          </a:prstGeom>
          <a:solidFill>
            <a:srgbClr val="33ccff"/>
          </a:solidFill>
          <a:ln w="0">
            <a:noFill/>
          </a:ln>
          <a:effectLst>
            <a:outerShdw dist="17819" dir="2700000" blurRad="0" rotWithShape="0">
              <a:srgbClr val="1f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arbapenem-sparing regime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Immagine 2" descr=""/>
          <p:cNvPicPr/>
          <p:nvPr/>
        </p:nvPicPr>
        <p:blipFill>
          <a:blip r:embed="rId1"/>
          <a:stretch/>
        </p:blipFill>
        <p:spPr>
          <a:xfrm>
            <a:off x="-30240" y="333360"/>
            <a:ext cx="9144000" cy="1216080"/>
          </a:xfrm>
          <a:prstGeom prst="rect">
            <a:avLst/>
          </a:prstGeom>
          <a:ln w="0">
            <a:noFill/>
          </a:ln>
        </p:spPr>
      </p:pic>
      <p:sp>
        <p:nvSpPr>
          <p:cNvPr id="1248" name="Rettangolo 3"/>
          <p:cNvSpPr/>
          <p:nvPr/>
        </p:nvSpPr>
        <p:spPr>
          <a:xfrm>
            <a:off x="0" y="1773360"/>
            <a:ext cx="914400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eftoloza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monstrates good activity against Enterobacteriaceae but its activity is limited against ESB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azobacta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s a potent, irreversible inhibitor of most ESB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he MIC50/MIC90 of this agent for ESBL-producing 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E. coli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re 0.5/4 μg/mL and for 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K. pneumonia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4/&gt;32 μ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erences in MIC distributions may be reflective of discrepancies in ESBL genes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0"/>
                </a:solidFill>
                <a:latin typeface="Arial"/>
              </a:rPr>
              <a:t>The blaCTX-M genes predominate in E. coli, whereas there is often a preponderance of blaTEM/SHV in K. pneumoniae, with variations in local epidemi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9" name="Immagine 4" descr=""/>
          <p:cNvPicPr/>
          <p:nvPr/>
        </p:nvPicPr>
        <p:blipFill>
          <a:blip r:embed="rId2"/>
          <a:stretch/>
        </p:blipFill>
        <p:spPr>
          <a:xfrm>
            <a:off x="5003640" y="6237360"/>
            <a:ext cx="367056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179280" y="1989000"/>
            <a:ext cx="87948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eftolozane-tazobactam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in combination with metronidazole) was compared to meropenem for the treatment of complicated intra-abdominal infections in phase 2 and phase 3 trials that included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4 and 50 people, respectively, with ESBL-producing Enterobacteriace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Arial"/>
                <a:ea typeface="Arial"/>
              </a:rPr>
              <a:t>Although the limited number of ESBLs precluded a robust analysis, this compound performed similarly against ESBL-producing and non-ESBL producing isol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1" name="Immagine 3" descr=""/>
          <p:cNvPicPr/>
          <p:nvPr/>
        </p:nvPicPr>
        <p:blipFill>
          <a:blip r:embed="rId1"/>
          <a:stretch/>
        </p:blipFill>
        <p:spPr>
          <a:xfrm>
            <a:off x="-30240" y="333360"/>
            <a:ext cx="9144000" cy="1216080"/>
          </a:xfrm>
          <a:prstGeom prst="rect">
            <a:avLst/>
          </a:prstGeom>
          <a:ln w="0">
            <a:noFill/>
          </a:ln>
        </p:spPr>
      </p:pic>
      <p:pic>
        <p:nvPicPr>
          <p:cNvPr id="1252" name="Immagine 4" descr=""/>
          <p:cNvPicPr/>
          <p:nvPr/>
        </p:nvPicPr>
        <p:blipFill>
          <a:blip r:embed="rId2"/>
          <a:stretch/>
        </p:blipFill>
        <p:spPr>
          <a:xfrm>
            <a:off x="5003640" y="6237360"/>
            <a:ext cx="367056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250560" y="1595520"/>
            <a:ext cx="8677080" cy="47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eftazidime-avibactam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s usually more active in vitro against ESBL producers than ceftolozane-tazobact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The MIC50/MIC 90 for ESBL-producing 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E. coli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are 0.12/0.25 μg/mL and for 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K. pneumoniae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0.5/1 μg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hase 2/3 studies compared ceftazidime-avibactam (plus metronidazole) vs meropenem for intra-abdominal infections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but did not specifically compare outcomes of ESBL-confirmed pathoge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ta from a phase 3 study comparing ceftazidime-avibactam and doripenem in UTIs showed similar microbiological response for ceftazidime-resistant Enterobacteriaceae, most of which were ESBL 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Immagine 3" descr=""/>
          <p:cNvPicPr/>
          <p:nvPr/>
        </p:nvPicPr>
        <p:blipFill>
          <a:blip r:embed="rId1"/>
          <a:stretch/>
        </p:blipFill>
        <p:spPr>
          <a:xfrm>
            <a:off x="-1440" y="189000"/>
            <a:ext cx="9144000" cy="1216080"/>
          </a:xfrm>
          <a:prstGeom prst="rect">
            <a:avLst/>
          </a:prstGeom>
          <a:ln w="0">
            <a:noFill/>
          </a:ln>
        </p:spPr>
      </p:pic>
      <p:pic>
        <p:nvPicPr>
          <p:cNvPr id="1255" name="Immagine 4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670200" cy="2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311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Carbapenem-resistant enterobacteriaceae (CRE): definition</a:t>
            </a: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394920" y="2060640"/>
            <a:ext cx="8147160" cy="36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RE was defined as an Enterobacteriaceae isolate demonstrating resistance to any carbapenem (ertapenem, meropenem, imipenem, and/or doripenem), based upon antimicrobial susceptibility testing (AS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  <a:ea typeface="Arial"/>
              </a:rPr>
              <a:t>Carbapenem resistance was defined as an Ertapenem MIC ≥2 mcg/ml and MPN and/or IP MIC ≥4 mcg/m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ttangolo 3"/>
          <p:cNvSpPr/>
          <p:nvPr/>
        </p:nvSpPr>
        <p:spPr>
          <a:xfrm>
            <a:off x="324000" y="6237360"/>
            <a:ext cx="838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inical Infectious Diseases Advance Access published November 9, 20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ttangolo 1"/>
          <p:cNvSpPr/>
          <p:nvPr/>
        </p:nvSpPr>
        <p:spPr>
          <a:xfrm>
            <a:off x="539640" y="1557360"/>
            <a:ext cx="792000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or Meropenem MICs of ≤4 mcg/ml: standard-infusion of 2 grams t.i.d. considered active, based on existing pK/pD stud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or Meropenem MICs of 8 mcg/ml: extended-infusion (2 grams t.i.d. over at least 3 hours) potentially active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odeling of extended-infusion strategies suggest that reasonable target attainment can be anticipated with meropenem MICs of up to 8 mcg/ml, and possibly 16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CasellaDiTesto 2"/>
          <p:cNvSpPr/>
          <p:nvPr/>
        </p:nvSpPr>
        <p:spPr>
          <a:xfrm>
            <a:off x="846360" y="549360"/>
            <a:ext cx="7495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eropenem use for CRE:  MIC, 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ttangolo 3"/>
          <p:cNvSpPr/>
          <p:nvPr/>
        </p:nvSpPr>
        <p:spPr>
          <a:xfrm>
            <a:off x="15840" y="6308640"/>
            <a:ext cx="838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inical Infectious Diseases Advance Access published November 9, 20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CasellaDiTesto 2"/>
          <p:cNvSpPr/>
          <p:nvPr/>
        </p:nvSpPr>
        <p:spPr>
          <a:xfrm>
            <a:off x="1807200" y="0"/>
            <a:ext cx="57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00"/>
                </a:solidFill>
                <a:latin typeface="Arial"/>
              </a:rPr>
              <a:t>K. pneumoniae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R, 2015-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5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208720" cy="5581800"/>
          </a:xfrm>
          <a:prstGeom prst="rect">
            <a:avLst/>
          </a:prstGeom>
          <a:ln w="0">
            <a:noFill/>
          </a:ln>
        </p:spPr>
      </p:pic>
      <p:sp>
        <p:nvSpPr>
          <p:cNvPr id="1264" name="Rettangolo 3"/>
          <p:cNvSpPr/>
          <p:nvPr/>
        </p:nvSpPr>
        <p:spPr>
          <a:xfrm>
            <a:off x="6443640" y="558972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ttangolo 4"/>
          <p:cNvSpPr/>
          <p:nvPr/>
        </p:nvSpPr>
        <p:spPr>
          <a:xfrm>
            <a:off x="6443640" y="5157720"/>
            <a:ext cx="194472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CasellaDiTesto 2"/>
          <p:cNvSpPr/>
          <p:nvPr/>
        </p:nvSpPr>
        <p:spPr>
          <a:xfrm>
            <a:off x="1778760" y="0"/>
            <a:ext cx="55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00"/>
                </a:solidFill>
                <a:latin typeface="Arial"/>
              </a:rPr>
              <a:t>P. aeruginosa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R, 2015-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7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820360" cy="5927760"/>
          </a:xfrm>
          <a:prstGeom prst="rect">
            <a:avLst/>
          </a:prstGeom>
          <a:ln w="0">
            <a:noFill/>
          </a:ln>
        </p:spPr>
      </p:pic>
      <p:sp>
        <p:nvSpPr>
          <p:cNvPr id="1268" name="Rettangolo 3"/>
          <p:cNvSpPr/>
          <p:nvPr/>
        </p:nvSpPr>
        <p:spPr>
          <a:xfrm>
            <a:off x="6588000" y="5157720"/>
            <a:ext cx="2376720" cy="79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662472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isclosures 2018-2019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23640" y="2060280"/>
            <a:ext cx="85122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dvisory Boa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 Angelini, Correvio, MSD, Nordic Pha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peaker/chairma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 Angelini,Correvio, MSD, Pfi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vents Sponsorsh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: Gilead, MSD, BMS, Jansenn, ViiV, BioMerieux, Biotest, Becton-Dickinson, Nordic Pharma, Pfizer, Shiono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ngoing research protoco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 Angelini, Cidara, MSD, Shionogi, Thera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CasellaDiTesto 2"/>
          <p:cNvSpPr/>
          <p:nvPr/>
        </p:nvSpPr>
        <p:spPr>
          <a:xfrm>
            <a:off x="854640" y="14400"/>
            <a:ext cx="80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00"/>
                </a:solidFill>
                <a:latin typeface="Arial"/>
              </a:rPr>
              <a:t>Acinetobacter spp.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R,</a:t>
            </a:r>
            <a:r>
              <a:rPr b="0" i="1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Toscana 2015-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64520" cy="5688360"/>
          </a:xfrm>
          <a:prstGeom prst="rect">
            <a:avLst/>
          </a:prstGeom>
          <a:ln w="0">
            <a:noFill/>
          </a:ln>
        </p:spPr>
      </p:pic>
      <p:sp>
        <p:nvSpPr>
          <p:cNvPr id="1271" name="Rettangolo 3"/>
          <p:cNvSpPr/>
          <p:nvPr/>
        </p:nvSpPr>
        <p:spPr>
          <a:xfrm>
            <a:off x="6372360" y="5084640"/>
            <a:ext cx="2303280" cy="79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ial features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of acquired carbapenemases</a:t>
            </a: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179280" y="1628640"/>
          <a:ext cx="8785440" cy="4724640"/>
        </p:xfrm>
        <a:graphic>
          <a:graphicData uri="http://schemas.openxmlformats.org/drawingml/2006/table">
            <a:tbl>
              <a:tblPr/>
              <a:tblGrid>
                <a:gridCol w="2289240"/>
                <a:gridCol w="2287800"/>
                <a:gridCol w="1771560"/>
                <a:gridCol w="243684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PC-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XA-48-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B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ber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APENEM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1613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CTR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ded (most beta-lacta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enicillins, NS cephe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ded, most beta-lactams </a:t>
                      </a: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xc.monobact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HIB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vi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ele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Vabor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vi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Immagine 1" descr=""/>
          <p:cNvPicPr/>
          <p:nvPr/>
        </p:nvPicPr>
        <p:blipFill>
          <a:blip r:embed="rId1"/>
          <a:stretch/>
        </p:blipFill>
        <p:spPr>
          <a:xfrm>
            <a:off x="0" y="115560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Impact"/>
              </a:rPr>
              <a:t>NDM epidemic, Tuscany 2018-2019*</a:t>
            </a: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Nov. 2018, mainly Tuscany North-Wes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Bacteremia 119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Deaths at 30 days: 40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Overall mortality: 3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ectal Colonization: &gt; 1000 (estim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K.pneumoniae (clonal spread)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few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E.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Susceptible to: Aztreonam-Avibactam, Colistin (100%)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osfomycin, Tygecicline 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ZTREONAM+CEFTAZIDIME AVIBAC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* 9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ttangolo 1"/>
          <p:cNvSpPr/>
          <p:nvPr/>
        </p:nvSpPr>
        <p:spPr>
          <a:xfrm>
            <a:off x="4367160" y="3244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Immagine 2" descr=""/>
          <p:cNvPicPr/>
          <p:nvPr/>
        </p:nvPicPr>
        <p:blipFill>
          <a:blip r:embed="rId1"/>
          <a:stretch/>
        </p:blipFill>
        <p:spPr>
          <a:xfrm>
            <a:off x="0" y="1511280"/>
            <a:ext cx="9144000" cy="3811680"/>
          </a:xfrm>
          <a:prstGeom prst="rect">
            <a:avLst/>
          </a:prstGeom>
          <a:ln w="0">
            <a:noFill/>
          </a:ln>
        </p:spPr>
      </p:pic>
      <p:sp>
        <p:nvSpPr>
          <p:cNvPr id="1279" name="Titolo 1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Impact"/>
              </a:rPr>
              <a:t>NDM epidemic, Tuscany 2018-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Immagine 2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44000" cy="5178240"/>
          </a:xfrm>
          <a:prstGeom prst="rect">
            <a:avLst/>
          </a:prstGeom>
          <a:ln w="0">
            <a:noFill/>
          </a:ln>
        </p:spPr>
      </p:pic>
      <p:sp>
        <p:nvSpPr>
          <p:cNvPr id="1281" name="Titolo 1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Impact"/>
              </a:rPr>
              <a:t>NDM epidemic, Tuscany 2018-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ttangolo 4"/>
          <p:cNvSpPr/>
          <p:nvPr/>
        </p:nvSpPr>
        <p:spPr>
          <a:xfrm>
            <a:off x="395280" y="6093000"/>
            <a:ext cx="8569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si NDM in Toscana per settimana, novembre 2018-6 ottobre 2019 NDM toscana dati 09ott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Immagine 1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284" name="CasellaDiTesto 1"/>
          <p:cNvSpPr/>
          <p:nvPr/>
        </p:nvSpPr>
        <p:spPr>
          <a:xfrm>
            <a:off x="6599880" y="836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75 batteriem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-19080" y="228600"/>
            <a:ext cx="914400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ectrum of Beta-Lactamase Inhibitors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graphicFrame>
        <p:nvGraphicFramePr>
          <p:cNvPr id="1286" name=""/>
          <p:cNvGraphicFramePr/>
          <p:nvPr/>
        </p:nvGraphicFramePr>
        <p:xfrm>
          <a:off x="304920" y="1143000"/>
          <a:ext cx="8588160" cy="5540400"/>
        </p:xfrm>
        <a:graphic>
          <a:graphicData uri="http://schemas.openxmlformats.org/drawingml/2006/table">
            <a:tbl>
              <a:tblPr/>
              <a:tblGrid>
                <a:gridCol w="2531880"/>
                <a:gridCol w="1514520"/>
                <a:gridCol w="1514520"/>
                <a:gridCol w="1512720"/>
                <a:gridCol w="1514520"/>
              </a:tblGrid>
              <a:tr h="366120">
                <a:tc rowSpan="2"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rbe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rbel"/>
                        </a:rPr>
                        <a:t>Beta-lactamase 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rbel"/>
                        </a:rPr>
                        <a:t>Tazobact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rbel"/>
                        </a:rPr>
                        <a:t>Avibact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rbel"/>
                        </a:rPr>
                        <a:t>Vaborbact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rbel"/>
                        </a:rPr>
                        <a:t>Relebact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lass  A  narrow-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640440"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lass  A  ESBLs         (CTX-M, SHV, TE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914760"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orbel"/>
                        </a:rPr>
                        <a:t>Class  A  carbapenamases (KP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914760"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ome  class  C 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Amp-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914760"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orbel"/>
                        </a:rPr>
                        <a:t>Some  class  D 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orbel"/>
                        </a:rPr>
                        <a:t>(OXA-4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0440"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orbel"/>
                        </a:rPr>
                        <a:t>Class B enzymes (MB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81360" rIns="81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Refertazione antibiogramma molecolare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graphicFrame>
        <p:nvGraphicFramePr>
          <p:cNvPr id="1288" name=""/>
          <p:cNvGraphicFramePr/>
          <p:nvPr/>
        </p:nvGraphicFramePr>
        <p:xfrm>
          <a:off x="457200" y="1600200"/>
          <a:ext cx="8229600" cy="4938840"/>
        </p:xfrm>
        <a:graphic>
          <a:graphicData uri="http://schemas.openxmlformats.org/drawingml/2006/table">
            <a:tbl>
              <a:tblPr/>
              <a:tblGrid>
                <a:gridCol w="2243160"/>
                <a:gridCol w="187164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TB MOLECOL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E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ER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KPC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M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M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XA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X-M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erobatt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za di un gene per carbapenemasi tipo KPC: </a:t>
                      </a: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levata probabilità di resistenza a tutti i betallatamici escluso ceftazidime/avi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PC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M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M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XA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X-M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erobatt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nza dei più comuni geni per ESBL e carbapenemasi: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ossibile sensibilità a CFSP di 3° e  4° generazione ed a combinazioni con inibitori di betalattamasi; probabile sensibilità a carbapene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Arial"/>
                <a:ea typeface="Arial"/>
              </a:rPr>
              <a:t>Antibiotic choice depending on genotype</a:t>
            </a:r>
            <a:br>
              <a:rPr sz="2900"/>
            </a:br>
            <a:r>
              <a:rPr b="1" lang="it-IT" sz="29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it-IT" sz="2900" spc="-1" strike="noStrike">
                <a:solidFill>
                  <a:srgbClr val="000000"/>
                </a:solidFill>
                <a:latin typeface="Arial"/>
                <a:ea typeface="Arial"/>
              </a:rPr>
              <a:t>Enterobacteriaceae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900" spc="-1" strike="noStrike">
              <a:solidFill>
                <a:srgbClr val="1782bf"/>
              </a:solidFill>
              <a:latin typeface="Impact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0" y="1257480"/>
          <a:ext cx="8964720" cy="5600520"/>
        </p:xfrm>
        <a:graphic>
          <a:graphicData uri="http://schemas.openxmlformats.org/drawingml/2006/table">
            <a:tbl>
              <a:tblPr/>
              <a:tblGrid>
                <a:gridCol w="3333600"/>
                <a:gridCol w="1159200"/>
                <a:gridCol w="1288800"/>
                <a:gridCol w="1079640"/>
                <a:gridCol w="1081080"/>
                <a:gridCol w="1022400"/>
              </a:tblGrid>
              <a:tr h="560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B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  <a:tr h="56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apen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ftazidime-avi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6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ftolozane-tazo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60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fep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is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6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gecyc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inoglycosi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60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racillin/tazo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6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sfomic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794800" cy="12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DR gram-negative bacilli, resistance mechanisms &amp; therapeutic options </a:t>
            </a:r>
            <a:br>
              <a:rPr sz="3200"/>
            </a:b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pic>
        <p:nvPicPr>
          <p:cNvPr id="1201" name="Picture 2" descr=""/>
          <p:cNvPicPr/>
          <p:nvPr/>
        </p:nvPicPr>
        <p:blipFill>
          <a:blip r:embed="rId1"/>
          <a:stretch/>
        </p:blipFill>
        <p:spPr>
          <a:xfrm>
            <a:off x="108000" y="1585800"/>
            <a:ext cx="8794800" cy="3746520"/>
          </a:xfrm>
          <a:prstGeom prst="rect">
            <a:avLst/>
          </a:prstGeom>
          <a:ln w="0">
            <a:noFill/>
          </a:ln>
        </p:spPr>
      </p:pic>
      <p:sp>
        <p:nvSpPr>
          <p:cNvPr id="1202" name="CasellaDiTesto 1"/>
          <p:cNvSpPr/>
          <p:nvPr/>
        </p:nvSpPr>
        <p:spPr>
          <a:xfrm>
            <a:off x="4046040" y="6021360"/>
            <a:ext cx="44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p-Vicas A &amp; Opal SM Virulence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ttangolo 4"/>
          <p:cNvSpPr/>
          <p:nvPr/>
        </p:nvSpPr>
        <p:spPr>
          <a:xfrm>
            <a:off x="1763640" y="1989000"/>
            <a:ext cx="2303640" cy="331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ttangolo 2"/>
          <p:cNvSpPr/>
          <p:nvPr/>
        </p:nvSpPr>
        <p:spPr>
          <a:xfrm>
            <a:off x="762120" y="2209680"/>
            <a:ext cx="784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anded spectrum of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lactamase 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2" name="Immagine 5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697572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3" name="Immagine 28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974000" cy="144792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1294" name="Rettangolo 1"/>
          <p:cNvSpPr/>
          <p:nvPr/>
        </p:nvSpPr>
        <p:spPr>
          <a:xfrm>
            <a:off x="4495320" y="6308640"/>
            <a:ext cx="422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J Antimicrob Chemother 2016; 71:2713-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eftazidime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vibactam 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24000" y="1413000"/>
            <a:ext cx="861192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trum  of  activity:  Gram-negatives,  including  MDR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  aerugino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BL-producing  strains,  KPC-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 approval  in  June  20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-UTI,  including  Pyelonephr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-IAI  (plus  metronidaz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socomial  pneum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m-neg. infection with limited treatme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8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V  dose:  2.5 g  (2 g ceftazidime; 0.5 g avibactam)  q8h  (2-h infus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Ceftazidime/avibactam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drawbacks</a:t>
            </a: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468360" y="1844280"/>
            <a:ext cx="8229600" cy="40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of resistance to CAZ/AVI (MIC ≥16 mg/L) was observed following relatively short courses of therap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educing the development of resistance by using a combination therapy approach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Early development of resistance a unique flaw of CAZ/AVI or might it be seen with other new βL-βLIs  combination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uch of the resistance reported seen in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K. pneumonia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solates, how common will this phenotype in non- Klebsiellae spp. harbouring KPC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 geographical areas where MBLs are observed at higher rates, what is the overall utility of ceftazidime/avibactam in clinical practic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New antibiotics for CP-CRE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graphicFrame>
        <p:nvGraphicFramePr>
          <p:cNvPr id="1300" name=""/>
          <p:cNvGraphicFramePr/>
          <p:nvPr/>
        </p:nvGraphicFramePr>
        <p:xfrm>
          <a:off x="108000" y="1844640"/>
          <a:ext cx="9036000" cy="3170160"/>
        </p:xfrm>
        <a:graphic>
          <a:graphicData uri="http://schemas.openxmlformats.org/drawingml/2006/table">
            <a:tbl>
              <a:tblPr/>
              <a:tblGrid>
                <a:gridCol w="3672000"/>
                <a:gridCol w="1584000"/>
                <a:gridCol w="1800360"/>
                <a:gridCol w="197964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XA-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M/IMP/ND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ftazidime Avi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openem Vabor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ipenem Rele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treonam Avibact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fideroc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zomic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avacyc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1" name=""/>
          <p:cNvGraphicFramePr/>
          <p:nvPr/>
        </p:nvGraphicFramePr>
        <p:xfrm>
          <a:off x="152280" y="5300640"/>
          <a:ext cx="8686800" cy="1189080"/>
        </p:xfrm>
        <a:graphic>
          <a:graphicData uri="http://schemas.openxmlformats.org/drawingml/2006/table">
            <a:tbl>
              <a:tblPr/>
              <a:tblGrid>
                <a:gridCol w="1117800"/>
                <a:gridCol w="75690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 depending on MICs and/or target concent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79520" y="188640"/>
            <a:ext cx="82296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  <a:ea typeface="Arial"/>
              </a:rPr>
              <a:t>Aztreonam/Avibactam</a:t>
            </a:r>
            <a:endParaRPr b="0" lang="en-US" sz="40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03" name="Rettangolo 3"/>
          <p:cNvSpPr/>
          <p:nvPr/>
        </p:nvSpPr>
        <p:spPr>
          <a:xfrm>
            <a:off x="468360" y="1413000"/>
            <a:ext cx="818820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ztreo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n gravato da reazioni allergiche crociate con altri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lattamici (eccetto ceftazid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rolizzato d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SBL, AmpC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K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NON idrolizzato da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 MB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vibac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ibitore non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latta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NON Idrolizzato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ES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AmpC </a:t>
            </a:r>
            <a:r>
              <a:rPr b="1" i="1" lang="el-GR" sz="2400" spc="-1" strike="noStrike">
                <a:solidFill>
                  <a:srgbClr val="ff3300"/>
                </a:solidFill>
                <a:latin typeface="Arial"/>
              </a:rPr>
              <a:t>β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-latta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KP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4" name="Segnaposto contenuto 4" descr=""/>
          <p:cNvPicPr/>
          <p:nvPr/>
        </p:nvPicPr>
        <p:blipFill>
          <a:blip r:embed="rId1"/>
          <a:srcRect l="51195" t="29272" r="1079" b="27776"/>
          <a:stretch/>
        </p:blipFill>
        <p:spPr>
          <a:xfrm>
            <a:off x="4932360" y="3357720"/>
            <a:ext cx="3627360" cy="2447640"/>
          </a:xfrm>
          <a:prstGeom prst="rect">
            <a:avLst/>
          </a:prstGeom>
          <a:ln w="0">
            <a:noFill/>
          </a:ln>
        </p:spPr>
      </p:pic>
      <p:sp>
        <p:nvSpPr>
          <p:cNvPr id="1305" name="CasellaDiTesto 5"/>
          <p:cNvSpPr/>
          <p:nvPr/>
        </p:nvSpPr>
        <p:spPr>
          <a:xfrm>
            <a:off x="5435640" y="6381720"/>
            <a:ext cx="33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lagas M.E. Expert Review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8"/>
          <p:cNvSpPr/>
          <p:nvPr/>
        </p:nvSpPr>
        <p:spPr>
          <a:xfrm>
            <a:off x="873000" y="2057400"/>
            <a:ext cx="7297920" cy="3048120"/>
          </a:xfrm>
          <a:prstGeom prst="bevel">
            <a:avLst>
              <a:gd name="adj" fmla="val 12500"/>
            </a:avLst>
          </a:prstGeom>
          <a:solidFill>
            <a:srgbClr val="33ccff"/>
          </a:solidFill>
          <a:ln w="0">
            <a:noFill/>
          </a:ln>
          <a:effectLst>
            <a:outerShdw dist="17819" dir="2700000" blurRad="0" rotWithShape="0">
              <a:srgbClr val="1f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ztreon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eftazidime/Avibac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  <a:ea typeface="Arial"/>
              </a:rPr>
              <a:t>Imipenem/Relebactam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95280" y="1773360"/>
            <a:ext cx="822960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elebactam (MK7655) is a piperidine analogue diazabicyclooctane beta-lactamase inhibitor designed to have inhibitory activity against class A and class C beta-lactam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In KPC-producing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K. pneumonia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the addition of relebactam resulted in lowering imipenem MICs by up to 64-fo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ore modest potentiation was seen with other ESBL- and AmpC producing strai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ittle or no reduction was seen in OXA-48-producing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K. pneumonia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r OXA-23-producing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. baumanni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suggesting relebactam, unlike avibactam, does not have significant activity against class D enzy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mipenem MICs were reduced from ≥16 mg/L to 2 mg/L in the presence of relebactam when imipenem-resistant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. aeruginos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solates were t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  <a:ea typeface="Arial"/>
              </a:rPr>
              <a:t>Meropenem/Vaborbactam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borbactam is a novel cyclic boronic acid inhibitor of many class A, class C and some class D beta-lactam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borbactam acts via the creation of a covalent (dative) bond between its boron moiety and the serine hydroxyl of beta lactama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The addition of vaborbactam at 8 μg/ml to meropenem resulted in ≥ 16-fold reduction in MICs for KPC producing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E. coli, K. pneumoniae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, and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Enterobacter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spp. isol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 a limited number of strains, the combination appeared to have reduced activity against KPC-producing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K.pneumoni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e isolates with diminished expression of porin genes ompK35 and ompK3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ittle effect on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. baumanni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ntaining OXA-type carbapenemases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r P. aeruginos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was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  <a:ea typeface="Arial"/>
              </a:rPr>
              <a:t>Cefiderocol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efiderocol is a siderophore cephalosporin antibiotic with a catechol moiety on the 3-position side ch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he catechol side chain enables ferric iron ion binding, and the resulting complex is actively transported into bacteria via ferric iron transporter systems with subsequent destruction of cell w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efiderocol has been shown to be potent in vitro against gram-negative organisms, including CRE and MDR 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P. aeruginosa and A. baumann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his activity is considered to be due to the efficient uptake via the active siderophore systems and also to the high stability of cefiderocol against CPS hydro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Terapia empirica carbapenem-sparing per MDR gram-neg</a:t>
            </a: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pic>
        <p:nvPicPr>
          <p:cNvPr id="1314" name="Segnaposto contenuto 3" descr=""/>
          <p:cNvPicPr/>
          <p:nvPr/>
        </p:nvPicPr>
        <p:blipFill>
          <a:blip r:embed="rId1"/>
          <a:stretch/>
        </p:blipFill>
        <p:spPr>
          <a:xfrm>
            <a:off x="176040" y="-133200"/>
            <a:ext cx="8278920" cy="4533840"/>
          </a:xfrm>
          <a:prstGeom prst="rect">
            <a:avLst/>
          </a:prstGeom>
          <a:ln w="0">
            <a:noFill/>
          </a:ln>
        </p:spPr>
      </p:pic>
      <p:pic>
        <p:nvPicPr>
          <p:cNvPr id="1315" name="Diagramma 6" descr=""/>
          <p:cNvPicPr/>
          <p:nvPr/>
        </p:nvPicPr>
        <p:blipFill>
          <a:blip r:embed="rId2"/>
          <a:stretch/>
        </p:blipFill>
        <p:spPr>
          <a:xfrm>
            <a:off x="628560" y="2041560"/>
            <a:ext cx="7935840" cy="4829040"/>
          </a:xfrm>
          <a:prstGeom prst="rect">
            <a:avLst/>
          </a:prstGeom>
          <a:ln w="0">
            <a:noFill/>
          </a:ln>
        </p:spPr>
      </p:pic>
      <p:pic>
        <p:nvPicPr>
          <p:cNvPr id="1316" name="Diagramma 7" descr=""/>
          <p:cNvPicPr/>
          <p:nvPr/>
        </p:nvPicPr>
        <p:blipFill>
          <a:blip r:embed="rId3"/>
          <a:stretch/>
        </p:blipFill>
        <p:spPr>
          <a:xfrm>
            <a:off x="-792000" y="5950080"/>
            <a:ext cx="968688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Terapia mirata carbapenem-sparing in infezioni gravi da gram-neg</a:t>
            </a: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pic>
        <p:nvPicPr>
          <p:cNvPr id="1318" name="Segnaposto contenuto 3" descr=""/>
          <p:cNvPicPr/>
          <p:nvPr/>
        </p:nvPicPr>
        <p:blipFill>
          <a:blip r:embed="rId1"/>
          <a:stretch/>
        </p:blipFill>
        <p:spPr>
          <a:xfrm>
            <a:off x="500040" y="-176040"/>
            <a:ext cx="8272440" cy="4535280"/>
          </a:xfrm>
          <a:prstGeom prst="rect">
            <a:avLst/>
          </a:prstGeom>
          <a:ln w="0">
            <a:noFill/>
          </a:ln>
        </p:spPr>
      </p:pic>
      <p:pic>
        <p:nvPicPr>
          <p:cNvPr id="1319" name="Diagramma 6" descr=""/>
          <p:cNvPicPr/>
          <p:nvPr/>
        </p:nvPicPr>
        <p:blipFill>
          <a:blip r:embed="rId2"/>
          <a:stretch/>
        </p:blipFill>
        <p:spPr>
          <a:xfrm>
            <a:off x="701640" y="2127240"/>
            <a:ext cx="7929720" cy="4286160"/>
          </a:xfrm>
          <a:prstGeom prst="rect">
            <a:avLst/>
          </a:prstGeom>
          <a:ln w="0">
            <a:noFill/>
          </a:ln>
        </p:spPr>
      </p:pic>
      <p:pic>
        <p:nvPicPr>
          <p:cNvPr id="1320" name="Diagramma 7" descr=""/>
          <p:cNvPicPr/>
          <p:nvPr/>
        </p:nvPicPr>
        <p:blipFill>
          <a:blip r:embed="rId3"/>
          <a:stretch/>
        </p:blipFill>
        <p:spPr>
          <a:xfrm>
            <a:off x="-817560" y="6095880"/>
            <a:ext cx="966312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  <a:ea typeface="Arial"/>
              </a:rPr>
              <a:t>Spectrum of β-lactamases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6200" y="1628640"/>
          <a:ext cx="8964720" cy="2990880"/>
        </p:xfrm>
        <a:graphic>
          <a:graphicData uri="http://schemas.openxmlformats.org/drawingml/2006/table">
            <a:tbl>
              <a:tblPr/>
              <a:tblGrid>
                <a:gridCol w="2241720"/>
                <a:gridCol w="2241720"/>
                <a:gridCol w="2239920"/>
                <a:gridCol w="224136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ss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sse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sse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sse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X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p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X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10062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xtended-Spectrum β-lactamases (ESB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llo β-latta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mp C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β-lactam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206" name="Ovale 4"/>
          <p:cNvSpPr/>
          <p:nvPr/>
        </p:nvSpPr>
        <p:spPr>
          <a:xfrm>
            <a:off x="755640" y="3213000"/>
            <a:ext cx="936720" cy="4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e 5"/>
          <p:cNvSpPr/>
          <p:nvPr/>
        </p:nvSpPr>
        <p:spPr>
          <a:xfrm>
            <a:off x="2987640" y="2060640"/>
            <a:ext cx="936720" cy="423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e 6"/>
          <p:cNvSpPr/>
          <p:nvPr/>
        </p:nvSpPr>
        <p:spPr>
          <a:xfrm>
            <a:off x="5003640" y="3429000"/>
            <a:ext cx="144000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CasellaDiTesto 1"/>
          <p:cNvSpPr/>
          <p:nvPr/>
        </p:nvSpPr>
        <p:spPr>
          <a:xfrm>
            <a:off x="324000" y="5229360"/>
            <a:ext cx="29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bapenem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e 8"/>
          <p:cNvSpPr/>
          <p:nvPr/>
        </p:nvSpPr>
        <p:spPr>
          <a:xfrm>
            <a:off x="395280" y="5157720"/>
            <a:ext cx="2736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New approach to MDR gram-neg. infections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pic>
        <p:nvPicPr>
          <p:cNvPr id="1322" name="Segnaposto contenuto 3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830232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New approach to MDR gram-neg. infections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pic>
        <p:nvPicPr>
          <p:cNvPr id="1324" name="Segnaposto contenuto 4" descr=""/>
          <p:cNvPicPr/>
          <p:nvPr/>
        </p:nvPicPr>
        <p:blipFill>
          <a:blip r:embed="rId1"/>
          <a:stretch/>
        </p:blipFill>
        <p:spPr>
          <a:xfrm>
            <a:off x="414360" y="1590840"/>
            <a:ext cx="8315280" cy="45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Conoscere i nuovi antibiotici: 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un dovere per il clinico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179280" y="1844280"/>
            <a:ext cx="874872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..ed un’opportunità per i pazienti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uriosità, non pigrizia prescrit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Modello di stewardship condiv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Raccomandazioni terapeutiche condiv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Gestione della scheda AI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Ruolo armonico delle società scientif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Sistema nazionale delle linee-guida (SNLG-I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CasellaDiTesto 1"/>
          <p:cNvSpPr/>
          <p:nvPr/>
        </p:nvSpPr>
        <p:spPr>
          <a:xfrm>
            <a:off x="1835280" y="5950080"/>
            <a:ext cx="540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antimicrobialstewardshi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Shape 217" descr="Shape 217"/>
          <p:cNvPicPr/>
          <p:nvPr/>
        </p:nvPicPr>
        <p:blipFill>
          <a:blip r:embed="rId1"/>
          <a:stretch/>
        </p:blipFill>
        <p:spPr>
          <a:xfrm>
            <a:off x="6672240" y="144360"/>
            <a:ext cx="2127240" cy="6713640"/>
          </a:xfrm>
          <a:prstGeom prst="rect">
            <a:avLst/>
          </a:prstGeom>
          <a:ln w="0">
            <a:noFill/>
          </a:ln>
        </p:spPr>
      </p:pic>
      <p:pic>
        <p:nvPicPr>
          <p:cNvPr id="1329" name="Shape 218" descr="Shape 218"/>
          <p:cNvPicPr/>
          <p:nvPr/>
        </p:nvPicPr>
        <p:blipFill>
          <a:blip r:embed="rId2"/>
          <a:stretch/>
        </p:blipFill>
        <p:spPr>
          <a:xfrm>
            <a:off x="355680" y="596880"/>
            <a:ext cx="5459400" cy="3614760"/>
          </a:xfrm>
          <a:prstGeom prst="rect">
            <a:avLst/>
          </a:prstGeom>
          <a:ln w="0">
            <a:noFill/>
          </a:ln>
        </p:spPr>
      </p:pic>
      <p:sp>
        <p:nvSpPr>
          <p:cNvPr id="1330" name="Shape 223"/>
          <p:cNvSpPr/>
          <p:nvPr/>
        </p:nvSpPr>
        <p:spPr>
          <a:xfrm>
            <a:off x="527040" y="4821120"/>
            <a:ext cx="5789520" cy="16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ocietà Scientifica multidisciplinare, promuove la cultura dell’ASP intesa come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GOVERNO CLINICO DELLA TERAPIA ANTIMICROBICA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attraverso il confronto equo tra esperti e prescrit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CasellaDiTesto 1"/>
          <p:cNvSpPr/>
          <p:nvPr/>
        </p:nvSpPr>
        <p:spPr>
          <a:xfrm>
            <a:off x="1042920" y="189000"/>
            <a:ext cx="540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antimicrobialstewardshi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CasellaDiTesto 2"/>
          <p:cNvSpPr/>
          <p:nvPr/>
        </p:nvSpPr>
        <p:spPr>
          <a:xfrm>
            <a:off x="684360" y="4292640"/>
            <a:ext cx="55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sidente Onorario: Prof. Johnatan Co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CasellaDiTesto 2"/>
          <p:cNvSpPr/>
          <p:nvPr/>
        </p:nvSpPr>
        <p:spPr>
          <a:xfrm>
            <a:off x="1065960" y="476280"/>
            <a:ext cx="6883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Blood Isolates, Toscana 2016-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CasellaDiTesto 1"/>
          <p:cNvSpPr/>
          <p:nvPr/>
        </p:nvSpPr>
        <p:spPr>
          <a:xfrm>
            <a:off x="6459120" y="630864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ARS-SMART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Picture 7" descr=""/>
          <p:cNvPicPr/>
          <p:nvPr/>
        </p:nvPicPr>
        <p:blipFill>
          <a:blip r:embed="rId1"/>
          <a:stretch/>
        </p:blipFill>
        <p:spPr>
          <a:xfrm>
            <a:off x="193680" y="1628640"/>
            <a:ext cx="8804160" cy="3584880"/>
          </a:xfrm>
          <a:prstGeom prst="rect">
            <a:avLst/>
          </a:prstGeom>
          <a:ln w="0">
            <a:noFill/>
          </a:ln>
        </p:spPr>
      </p:pic>
      <p:sp>
        <p:nvSpPr>
          <p:cNvPr id="1214" name="Rettangolo 8"/>
          <p:cNvSpPr/>
          <p:nvPr/>
        </p:nvSpPr>
        <p:spPr>
          <a:xfrm>
            <a:off x="7471080" y="29224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.074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ttangolo 9"/>
          <p:cNvSpPr/>
          <p:nvPr/>
        </p:nvSpPr>
        <p:spPr>
          <a:xfrm>
            <a:off x="3903840" y="2608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827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ttangolo 10"/>
          <p:cNvSpPr/>
          <p:nvPr/>
        </p:nvSpPr>
        <p:spPr>
          <a:xfrm>
            <a:off x="250920" y="2637000"/>
            <a:ext cx="8713800" cy="86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8" descr=""/>
          <p:cNvPicPr/>
          <p:nvPr/>
        </p:nvPicPr>
        <p:blipFill>
          <a:blip r:embed="rId2"/>
          <a:stretch/>
        </p:blipFill>
        <p:spPr>
          <a:xfrm>
            <a:off x="7020000" y="1844640"/>
            <a:ext cx="17524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CasellaDiTesto 3"/>
          <p:cNvSpPr/>
          <p:nvPr/>
        </p:nvSpPr>
        <p:spPr>
          <a:xfrm>
            <a:off x="2195640" y="189000"/>
            <a:ext cx="511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. coli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SBL, 2015-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3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8064360" cy="5413320"/>
          </a:xfrm>
          <a:prstGeom prst="rect">
            <a:avLst/>
          </a:prstGeom>
          <a:ln w="0">
            <a:noFill/>
          </a:ln>
        </p:spPr>
      </p:pic>
      <p:sp>
        <p:nvSpPr>
          <p:cNvPr id="1220" name="Rettangolo 3"/>
          <p:cNvSpPr/>
          <p:nvPr/>
        </p:nvSpPr>
        <p:spPr>
          <a:xfrm>
            <a:off x="6516720" y="5084640"/>
            <a:ext cx="223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CasellaDiTesto 7"/>
          <p:cNvSpPr/>
          <p:nvPr/>
        </p:nvSpPr>
        <p:spPr>
          <a:xfrm>
            <a:off x="1187280" y="333360"/>
            <a:ext cx="68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K. pneumonia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SBL, 2015-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Picture 4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820280" cy="5324400"/>
          </a:xfrm>
          <a:prstGeom prst="rect">
            <a:avLst/>
          </a:prstGeom>
          <a:ln w="0">
            <a:noFill/>
          </a:ln>
        </p:spPr>
      </p:pic>
      <p:sp>
        <p:nvSpPr>
          <p:cNvPr id="1223" name="Rettangolo 3"/>
          <p:cNvSpPr/>
          <p:nvPr/>
        </p:nvSpPr>
        <p:spPr>
          <a:xfrm>
            <a:off x="6461280" y="5111640"/>
            <a:ext cx="1944360" cy="47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CasellaDiTesto 6"/>
          <p:cNvSpPr/>
          <p:nvPr/>
        </p:nvSpPr>
        <p:spPr>
          <a:xfrm>
            <a:off x="1547640" y="404640"/>
            <a:ext cx="619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reatment for ESBL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CasellaDiTesto 8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618400" cy="5450040"/>
          </a:xfrm>
          <a:prstGeom prst="rect">
            <a:avLst/>
          </a:prstGeom>
          <a:ln w="0">
            <a:noFill/>
          </a:ln>
        </p:spPr>
      </p:pic>
      <p:sp>
        <p:nvSpPr>
          <p:cNvPr id="1226" name="Rettangolo 1"/>
          <p:cNvSpPr/>
          <p:nvPr/>
        </p:nvSpPr>
        <p:spPr>
          <a:xfrm>
            <a:off x="3076560" y="907920"/>
            <a:ext cx="2678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Sanford Guide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468360" y="2565360"/>
            <a:ext cx="822960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dult pts from 32 sites in 9 countries  (Singapore, Australia and Turkey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ts included 378  (February 2014 to July 2017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HAI: &gt; 50% of the infections in the study grou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Urosepsis: 60.9% of the infec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responsible of 86.5% of th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8" name="Immagine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733400"/>
          </a:xfrm>
          <a:prstGeom prst="rect">
            <a:avLst/>
          </a:prstGeom>
          <a:ln w="0">
            <a:noFill/>
          </a:ln>
        </p:spPr>
      </p:pic>
      <p:pic>
        <p:nvPicPr>
          <p:cNvPr id="1229" name="Immagine 2" descr=""/>
          <p:cNvPicPr/>
          <p:nvPr/>
        </p:nvPicPr>
        <p:blipFill>
          <a:blip r:embed="rId2"/>
          <a:stretch/>
        </p:blipFill>
        <p:spPr>
          <a:xfrm>
            <a:off x="5940360" y="6381720"/>
            <a:ext cx="25909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6:28:44Z</dcterms:created>
  <dc:creator>Francesco</dc:creator>
  <dc:description/>
  <cp:keywords/>
  <dc:language>en-US</dc:language>
  <cp:lastModifiedBy>q a</cp:lastModifiedBy>
  <cp:lastPrinted>2018-05-11T06:39:21Z</cp:lastPrinted>
  <dcterms:modified xsi:type="dcterms:W3CDTF">2020-05-12T07:59:32Z</dcterms:modified>
  <cp:revision>723</cp:revision>
  <dc:subject/>
  <dc:title>Infezioni da  K.pneumoniae produttrice di KPC</dc:title>
</cp:coreProperties>
</file>