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8116-4D68-4EFE-B980-0B513308F50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66C-E646-4FCA-9469-50CC4C681D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859-55F9-430B-AC86-2EAC208D317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E26-4050-4768-BBFA-54EF8915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129-7E84-470E-B74F-692AA75F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2CB-C54F-4AC8-AFC4-0FEE95EC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2A5-A4D7-48AA-A5D8-B0AB2859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090-B51F-456C-8576-C4B0D205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AEB-6D99-4DD1-B589-F2ADBC5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5C2-7B94-4445-A53F-AA10E51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B00-E649-49D4-8673-A4969AAB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13F-F228-462B-A465-988F6FB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8F5-A1D8-481D-B9CD-B454D79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BA7-D46F-41F5-86E6-CD7030D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6BF-FD28-4325-81B5-E009085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6C6-84F8-4A7C-BB42-88B267791C58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P: solo letteratura 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ratica clinica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640" y="2349000"/>
            <a:ext cx="723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Francesco Menichet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dinario di Malattie Infettive, Università di P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rettore UOC Malattie Infettive A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esidente G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Antimicrobial stewardship</a:t>
            </a:r>
            <a:br>
              <a:rPr sz="3600"/>
            </a:b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Azienda Ospedaliera Universitaria Pis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7640" y="220500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ruppo multidisciplinare  AI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(antibiotic stewardship, infection control, diagnostic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su delibera regionale e azienda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Livelli prescritti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apia Intensiva e Emat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tonomia prescrit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tri repar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estrizione della prescrizione di antibiotici e antifungini selezionati (modello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front-end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cessità di ID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armaco fornito per 5 giorni, salvo diversa indicazione del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fettivo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NB: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per i farmaci soggetti a scheda AIFA al momento è necessaria la consulenza infettivologica per tutti i repar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Consulenza infettivolo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 chiamata del reparto (mail o telefo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vento sistematico settimanale in UTI Trapianti e Centro Ust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hatsAp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15"/>
          <p:cNvGraphicFramePr/>
          <p:nvPr/>
        </p:nvGraphicFramePr>
        <p:xfrm>
          <a:off x="2340000" y="189000"/>
          <a:ext cx="434484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9000"/>
                    <a:ext cx="43448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Farmaci sottoposti a restri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ntibiot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vofloxacina 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eicoplanina, daptomicina, linezolid, tedizolid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lbavancina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igecic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lis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sfomic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eropenem, imipenem ed ertapen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eftarolina* e ceftobipro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eftolozane/tazobactam*, ceftazidime/avibactam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daxomicina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ntifungi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Voriconazolo e isavuconazo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mfotericina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chinocan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1"/>
          <p:cNvSpPr/>
          <p:nvPr/>
        </p:nvSpPr>
        <p:spPr>
          <a:xfrm>
            <a:off x="6441120" y="6165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* Scheda AI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co 6" descr=""/>
          <p:cNvPicPr/>
          <p:nvPr/>
        </p:nvPicPr>
        <p:blipFill>
          <a:blip r:embed="rId1"/>
          <a:stretch/>
        </p:blipFill>
        <p:spPr>
          <a:xfrm>
            <a:off x="482760" y="206280"/>
            <a:ext cx="802296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ttangolo 1"/>
          <p:cNvSpPr/>
          <p:nvPr/>
        </p:nvSpPr>
        <p:spPr>
          <a:xfrm>
            <a:off x="0" y="1690560"/>
            <a:ext cx="903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he challenge with antimicrobial prescribing is the need to balance two conflicting goa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provision of therapy that is adequate to treat documented or presumed infection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minimization of antimicrobial use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to avoid adverse drug events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(e.g.,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lostridium difficile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infection and allergy)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and the emergence of antimicrobial resistance, and to reduce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2"/>
          <p:cNvSpPr/>
          <p:nvPr/>
        </p:nvSpPr>
        <p:spPr>
          <a:xfrm>
            <a:off x="3001320" y="612720"/>
            <a:ext cx="27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SP rat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Primary ASP metr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Antimicrobial 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Microbiological res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linical outco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195640" y="203040"/>
            <a:ext cx="4680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65240" y="404640"/>
            <a:ext cx="914400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Arial"/>
              </a:rPr>
              <a:t>Disclosures 2018-20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3640" y="1628280"/>
            <a:ext cx="851220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dvisory Boar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: Angelini, MSD, Nabriva, Pf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Speaker/chairma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: Angelini, MSD, Pfiz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Events Sponsorsh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p: Angelini, Gilead, Pfizer, MSD, Shionogi, Menarini, ViiV, Correvio, Janssen, Nordic Pharma, BioMerieux, Bayer, Thermofis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ngoing research protoco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: Angelini, MSD, Shionogi, Pf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7327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390240"/>
            <a:ext cx="777708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ASP: the role of ID consult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asellaDiTesto 7"/>
          <p:cNvSpPr/>
          <p:nvPr/>
        </p:nvSpPr>
        <p:spPr>
          <a:xfrm>
            <a:off x="1343160" y="774720"/>
            <a:ext cx="18396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-52560" y="1773360"/>
            <a:ext cx="93362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7424a"/>
                </a:solidFill>
                <a:latin typeface="Calibri"/>
              </a:rPr>
              <a:t> </a:t>
            </a:r>
            <a:r>
              <a:rPr b="1" i="1" lang="it-IT" sz="3600" spc="-1" strike="noStrike">
                <a:solidFill>
                  <a:srgbClr val="37424a"/>
                </a:solidFill>
                <a:latin typeface="Calibri"/>
              </a:rPr>
              <a:t>Clostridium difficile </a:t>
            </a:r>
            <a:r>
              <a:rPr b="1" lang="it-IT" sz="3600" spc="-1" strike="noStrike">
                <a:solidFill>
                  <a:srgbClr val="37424a"/>
                </a:solidFill>
                <a:latin typeface="Calibri"/>
              </a:rPr>
              <a:t>infections</a:t>
            </a:r>
            <a:br>
              <a:rPr sz="3600"/>
            </a:br>
            <a:r>
              <a:rPr b="1" lang="it-IT" sz="2400" spc="-1" strike="noStrike">
                <a:solidFill>
                  <a:srgbClr val="37424a"/>
                </a:solidFill>
                <a:latin typeface="Calibri"/>
              </a:rPr>
              <a:t>Pisa tertiary-care, un. hospital (1180 b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Object 10" descr=""/>
          <p:cNvPicPr/>
          <p:nvPr/>
        </p:nvPicPr>
        <p:blipFill>
          <a:blip r:embed="rId3"/>
          <a:stretch/>
        </p:blipFill>
        <p:spPr>
          <a:xfrm>
            <a:off x="417600" y="1433520"/>
            <a:ext cx="8488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390600"/>
            <a:ext cx="777708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Candidemie 2012-2014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Pisa Hospital: 341 episo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Segnaposto contenuto 3"/>
          <p:cNvGraphicFramePr/>
          <p:nvPr/>
        </p:nvGraphicFramePr>
        <p:xfrm>
          <a:off x="1249200" y="1484280"/>
          <a:ext cx="6789960" cy="470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Segnaposto contenu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484280"/>
                    <a:ext cx="678996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55280" y="1483920"/>
            <a:ext cx="7777080" cy="47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tients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3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. albicans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188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(5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. parapsilosis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  98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(26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. glabrata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             38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(1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. tropicalis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             23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(6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. krusei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thers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 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390600"/>
            <a:ext cx="777708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Calibri"/>
              </a:rPr>
              <a:t>Candidemie 2012-2014</a:t>
            </a: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Calibri"/>
              </a:rPr>
              <a:t>Pisa Hospital: 341 episo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Segnaposto contenuto 3"/>
          <p:cNvGraphicFramePr/>
          <p:nvPr/>
        </p:nvGraphicFramePr>
        <p:xfrm>
          <a:off x="704880" y="1344600"/>
          <a:ext cx="8161200" cy="51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Segnaposto contenu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44600"/>
                    <a:ext cx="816120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523440"/>
            <a:ext cx="777708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CANDIDEMIE 2012-2014 AOUP: 341 EPISO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367320" y="2362320"/>
            <a:ext cx="2448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02 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with ID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(mean age: 68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55640" y="3932280"/>
            <a:ext cx="2340000" cy="155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39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with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(mean age: 74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55280" y="1483920"/>
            <a:ext cx="7777080" cy="47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841040" y="1004760"/>
            <a:ext cx="240696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341 CAND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1" descr=""/>
          <p:cNvPicPr/>
          <p:nvPr/>
        </p:nvPicPr>
        <p:blipFill>
          <a:blip r:embed="rId1"/>
          <a:stretch/>
        </p:blipFill>
        <p:spPr>
          <a:xfrm>
            <a:off x="669960" y="1530360"/>
            <a:ext cx="8298000" cy="4949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5"/>
          <p:cNvSpPr/>
          <p:nvPr/>
        </p:nvSpPr>
        <p:spPr>
          <a:xfrm>
            <a:off x="5077800" y="1004760"/>
            <a:ext cx="280800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ORTALITY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390240"/>
            <a:ext cx="7777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Pisa Hospital 2012-201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753840"/>
            <a:ext cx="7777080" cy="37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Multivariate logistic regression model regarding 30-day mort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6560" y="2133720"/>
          <a:ext cx="8353440" cy="2952720"/>
        </p:xfrm>
        <a:graphic>
          <a:graphicData uri="http://schemas.openxmlformats.org/drawingml/2006/table">
            <a:tbl>
              <a:tblPr/>
              <a:tblGrid>
                <a:gridCol w="3103560"/>
                <a:gridCol w="1749600"/>
                <a:gridCol w="1925640"/>
                <a:gridCol w="1574640"/>
              </a:tblGrid>
              <a:tr h="10890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a"/>
                          </a:solidFill>
                          <a:latin typeface="Arial"/>
                          <a:ea typeface="SimSun"/>
                        </a:rPr>
                        <a:t>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a"/>
                          </a:solidFill>
                          <a:latin typeface="Arial"/>
                          <a:ea typeface="SimSu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a"/>
                          </a:solidFill>
                          <a:latin typeface="Arial"/>
                          <a:ea typeface="SimSun"/>
                        </a:rPr>
                        <a:t>95% CI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a"/>
                          </a:solidFill>
                          <a:latin typeface="Arial"/>
                          <a:ea typeface="SimSu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16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 &gt; 6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a"/>
                          </a:solidFill>
                          <a:latin typeface="Calibri"/>
                          <a:ea typeface="SimSun"/>
                        </a:rPr>
                        <a:t>2.1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.259 – 3.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0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I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0.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0.298 – 0.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0000"/>
                </a:solidFill>
                <a:latin typeface="Calibri"/>
              </a:rPr>
              <a:t>K. pneumoniae</a:t>
            </a: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 resistente a carbapenemi, Toscana, anni 2015-2017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38240" y="1781280"/>
            <a:ext cx="8867520" cy="3295440"/>
          </a:xfrm>
          <a:prstGeom prst="rect">
            <a:avLst/>
          </a:prstGeom>
          <a:ln w="0">
            <a:noFill/>
          </a:ln>
        </p:spPr>
      </p:pic>
      <p:sp>
        <p:nvSpPr>
          <p:cNvPr id="165" name="Freccia in su 3"/>
          <p:cNvSpPr/>
          <p:nvPr/>
        </p:nvSpPr>
        <p:spPr>
          <a:xfrm>
            <a:off x="6877080" y="5013360"/>
            <a:ext cx="576360" cy="72072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Arial"/>
              </a:rPr>
              <a:t>Drivers della AMR e governo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Arial"/>
              </a:rPr>
              <a:t> della terapia antimicrob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773000"/>
            <a:ext cx="8569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’emergenza di microrganismi MDR è influenzata dalla pressione selettiva degli antibiotici sulla flora intestinale: necessità di appropriatezza prescrit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rogrammi che controllino l’uso della terapia antimicrobica: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ANTIMICROBIAL STEWARD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a diffusione crociata dei microrganismi MDR è condizionata dall’osservanza delle buone pratiche assistenziali: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INFECT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Batteremie da CR-K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2252520"/>
        </p:xfrm>
        <a:graphic>
          <a:graphicData uri="http://schemas.openxmlformats.org/drawingml/2006/table">
            <a:tbl>
              <a:tblPr/>
              <a:tblGrid>
                <a:gridCol w="2674800"/>
                <a:gridCol w="1079640"/>
                <a:gridCol w="1152360"/>
                <a:gridCol w="1152720"/>
                <a:gridCol w="1150920"/>
                <a:gridCol w="1019160"/>
              </a:tblGrid>
              <a:tr h="798480">
                <a:tc>
                  <a:txBody>
                    <a:bodyPr lIns="68760" rIns="68760" tIns="0" bIns="0" anchor="t">
                      <a:noAutofit/>
                    </a:bodyPr>
                    <a:p>
                      <a:pPr marL="223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n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9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umero di pazi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4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cidenza/10.000 giornate di deg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,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lonizzazione e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batteremie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da CR-Kp</a:t>
            </a:r>
            <a:br>
              <a:rPr sz="3200"/>
            </a:b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AOUP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1700280"/>
          <a:ext cx="8569080" cy="2801880"/>
        </p:xfrm>
        <a:graphic>
          <a:graphicData uri="http://schemas.openxmlformats.org/drawingml/2006/table">
            <a:tbl>
              <a:tblPr/>
              <a:tblGrid>
                <a:gridCol w="1074600"/>
                <a:gridCol w="2090880"/>
                <a:gridCol w="69840"/>
                <a:gridCol w="1288800"/>
                <a:gridCol w="1290600"/>
                <a:gridCol w="1290960"/>
                <a:gridCol w="1290600"/>
                <a:gridCol w="45720"/>
                <a:gridCol w="127080"/>
              </a:tblGrid>
              <a:tr h="64764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N P.ti e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% P.ti e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N P.ti 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% P.ti 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2"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rapie Inten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3"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arti Chirurg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3"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arti Med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3"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iabilit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3"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nto Socco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alibri"/>
              </a:rPr>
              <a:t>Batteriemie da K. pneumoniae resistente a Carbapenemi – Alert anno 201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476360" y="809640"/>
            <a:ext cx="6113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Setticemie da KPC-K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1052640"/>
          <a:ext cx="7777080" cy="5675040"/>
        </p:xfrm>
        <a:graphic>
          <a:graphicData uri="http://schemas.openxmlformats.org/drawingml/2006/table">
            <a:tbl>
              <a:tblPr/>
              <a:tblGrid>
                <a:gridCol w="3473280"/>
                <a:gridCol w="1373040"/>
                <a:gridCol w="1532160"/>
                <a:gridCol w="1398600"/>
              </a:tblGrid>
              <a:tr h="366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Variab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C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idenza /1000 acces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idenza /10000 gg d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tà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66±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66±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64±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% M rispetto a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eparti Med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eparti Chirurg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eparti UTI + C.ust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% Pazienti in consul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g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7±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7±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6±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g media guar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54±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53±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50±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Letalità 30 gg in con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Letalità 30 gg non con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iff % dec 30 gg in 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-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-2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-9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sito letalità  30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Letalità intrao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magine 1" descr="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NDM epidemic, Tuscany 2018-2019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Nov. 2018, mainly Tuscany North-Wes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Bacteremia 147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eaths at 30 days: 48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Overall mortality: 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ctal Colonization: &gt; 1500 (estim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K.pneumoniae (clonal spread ST147)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, few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E.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usceptible to: Aztreonam-Avibactam, Colistin (100%) Fosfomycin, Tygecicline (8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ZTREONAM+CEFTAZIDIME AVIBACT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* 11 Dic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5"/>
          <p:cNvSpPr/>
          <p:nvPr/>
        </p:nvSpPr>
        <p:spPr>
          <a:xfrm>
            <a:off x="1116000" y="333360"/>
            <a:ext cx="6553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giornamento 11 dicembre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 novembre 2018 batteri NDM sono stati isol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l sangue di 147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magine 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Grafico 1" descr=""/>
          <p:cNvPicPr/>
          <p:nvPr/>
        </p:nvPicPr>
        <p:blipFill>
          <a:blip r:embed="rId1"/>
          <a:stretch/>
        </p:blipFill>
        <p:spPr>
          <a:xfrm>
            <a:off x="324000" y="182520"/>
            <a:ext cx="84294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8200" y="222120"/>
            <a:ext cx="78580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tibiotic choice for MDR Enterobacteriacea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non-fermenting GNB depending on geno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78000" y="1173240"/>
          <a:ext cx="8288280" cy="4518000"/>
        </p:xfrm>
        <a:graphic>
          <a:graphicData uri="http://schemas.openxmlformats.org/drawingml/2006/table">
            <a:tbl>
              <a:tblPr/>
              <a:tblGrid>
                <a:gridCol w="1812600"/>
                <a:gridCol w="804960"/>
                <a:gridCol w="709560"/>
                <a:gridCol w="557280"/>
                <a:gridCol w="801720"/>
                <a:gridCol w="996840"/>
                <a:gridCol w="1303560"/>
                <a:gridCol w="1301760"/>
              </a:tblGrid>
              <a:tr h="37152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nterobacteriace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. aerugin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(except for MB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 baumann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992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SB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m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XA-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MP/VMP/N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iperacillin–tazobac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548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mipenem/meropen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332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efep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eftazid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296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ztreo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lis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296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gecyc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51480" rIns="514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minoglycos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1480" rIns="5148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82" name="Rectangle 22"/>
          <p:cNvSpPr/>
          <p:nvPr/>
        </p:nvSpPr>
        <p:spPr>
          <a:xfrm>
            <a:off x="1182600" y="5821200"/>
            <a:ext cx="162000" cy="1810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922400" y="5827680"/>
            <a:ext cx="163440" cy="16344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5778360" y="5832360"/>
            <a:ext cx="177840" cy="169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8"/>
          <p:cNvSpPr/>
          <p:nvPr/>
        </p:nvSpPr>
        <p:spPr>
          <a:xfrm>
            <a:off x="1018800" y="5691240"/>
            <a:ext cx="606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ve         Activity depending on MICs and/or target concentrations            No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460520" y="1341360"/>
          <a:ext cx="2562120" cy="4602240"/>
        </p:xfrm>
        <a:graphic>
          <a:graphicData uri="http://schemas.openxmlformats.org/drawingml/2006/table">
            <a:tbl>
              <a:tblPr/>
              <a:tblGrid>
                <a:gridCol w="512640"/>
                <a:gridCol w="513000"/>
                <a:gridCol w="511200"/>
                <a:gridCol w="512640"/>
                <a:gridCol w="512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b05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50"/>
                        </a:gs>
                        <a:gs pos="100000">
                          <a:srgbClr val="92d050"/>
                        </a:gs>
                      </a:gsLst>
                      <a:lin ang="13500000"/>
                    </a:gra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449600" y="1357200"/>
          <a:ext cx="2232360" cy="4570560"/>
        </p:xfrm>
        <a:graphic>
          <a:graphicData uri="http://schemas.openxmlformats.org/drawingml/2006/table">
            <a:tbl>
              <a:tblPr/>
              <a:tblGrid>
                <a:gridCol w="559080"/>
                <a:gridCol w="556920"/>
                <a:gridCol w="557280"/>
                <a:gridCol w="55908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958080" y="1357200"/>
          <a:ext cx="1855800" cy="4568760"/>
        </p:xfrm>
        <a:graphic>
          <a:graphicData uri="http://schemas.openxmlformats.org/drawingml/2006/table">
            <a:tbl>
              <a:tblPr/>
              <a:tblGrid>
                <a:gridCol w="619200"/>
                <a:gridCol w="617400"/>
                <a:gridCol w="61920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89" name="CasellaDiTesto 6"/>
          <p:cNvSpPr/>
          <p:nvPr/>
        </p:nvSpPr>
        <p:spPr>
          <a:xfrm>
            <a:off x="58680" y="139392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EFT/T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7"/>
          <p:cNvSpPr/>
          <p:nvPr/>
        </p:nvSpPr>
        <p:spPr>
          <a:xfrm>
            <a:off x="87480" y="203976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V/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sellaDiTesto 8"/>
          <p:cNvSpPr/>
          <p:nvPr/>
        </p:nvSpPr>
        <p:spPr>
          <a:xfrm>
            <a:off x="58680" y="261792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ER/V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sellaDiTesto 9"/>
          <p:cNvSpPr/>
          <p:nvPr/>
        </p:nvSpPr>
        <p:spPr>
          <a:xfrm>
            <a:off x="-68400" y="43178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ravacy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10"/>
          <p:cNvSpPr/>
          <p:nvPr/>
        </p:nvSpPr>
        <p:spPr>
          <a:xfrm>
            <a:off x="1332000" y="26028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11"/>
          <p:cNvSpPr/>
          <p:nvPr/>
        </p:nvSpPr>
        <p:spPr>
          <a:xfrm>
            <a:off x="4500720" y="333360"/>
            <a:ext cx="20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P. aerugin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2"/>
          <p:cNvSpPr/>
          <p:nvPr/>
        </p:nvSpPr>
        <p:spPr>
          <a:xfrm>
            <a:off x="6948360" y="32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bauman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sellaDiTesto 13"/>
          <p:cNvSpPr/>
          <p:nvPr/>
        </p:nvSpPr>
        <p:spPr>
          <a:xfrm>
            <a:off x="1455840" y="971640"/>
            <a:ext cx="7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llaDiTesto 14"/>
          <p:cNvSpPr/>
          <p:nvPr/>
        </p:nvSpPr>
        <p:spPr>
          <a:xfrm>
            <a:off x="1932120" y="96840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m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15"/>
          <p:cNvSpPr/>
          <p:nvPr/>
        </p:nvSpPr>
        <p:spPr>
          <a:xfrm>
            <a:off x="2540160" y="97164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sellaDiTesto 16"/>
          <p:cNvSpPr/>
          <p:nvPr/>
        </p:nvSpPr>
        <p:spPr>
          <a:xfrm>
            <a:off x="2975040" y="96048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sellaDiTesto 17"/>
          <p:cNvSpPr/>
          <p:nvPr/>
        </p:nvSpPr>
        <p:spPr>
          <a:xfrm>
            <a:off x="3414600" y="971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OXA-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18"/>
          <p:cNvSpPr/>
          <p:nvPr/>
        </p:nvSpPr>
        <p:spPr>
          <a:xfrm>
            <a:off x="4370400" y="93204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m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sellaDiTesto 19"/>
          <p:cNvSpPr/>
          <p:nvPr/>
        </p:nvSpPr>
        <p:spPr>
          <a:xfrm>
            <a:off x="4946760" y="932040"/>
            <a:ext cx="7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f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sellaDiTesto 20"/>
          <p:cNvSpPr/>
          <p:nvPr/>
        </p:nvSpPr>
        <p:spPr>
          <a:xfrm>
            <a:off x="5519880" y="932040"/>
            <a:ext cx="7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21"/>
          <p:cNvSpPr/>
          <p:nvPr/>
        </p:nvSpPr>
        <p:spPr>
          <a:xfrm>
            <a:off x="6097680" y="93672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sellaDiTesto 22"/>
          <p:cNvSpPr/>
          <p:nvPr/>
        </p:nvSpPr>
        <p:spPr>
          <a:xfrm>
            <a:off x="6883560" y="93204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m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asellaDiTesto 23"/>
          <p:cNvSpPr/>
          <p:nvPr/>
        </p:nvSpPr>
        <p:spPr>
          <a:xfrm>
            <a:off x="7499520" y="500040"/>
            <a:ext cx="95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OXA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OXA-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OXA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sellaDiTesto 24"/>
          <p:cNvSpPr/>
          <p:nvPr/>
        </p:nvSpPr>
        <p:spPr>
          <a:xfrm>
            <a:off x="8190000" y="94932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26"/>
          <p:cNvSpPr/>
          <p:nvPr/>
        </p:nvSpPr>
        <p:spPr>
          <a:xfrm>
            <a:off x="135000" y="369576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ZT/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27"/>
          <p:cNvSpPr/>
          <p:nvPr/>
        </p:nvSpPr>
        <p:spPr>
          <a:xfrm>
            <a:off x="0" y="487836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efider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sellaDiTesto 28"/>
          <p:cNvSpPr/>
          <p:nvPr/>
        </p:nvSpPr>
        <p:spPr>
          <a:xfrm>
            <a:off x="0" y="547200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lazomi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sellaDiTesto 29"/>
          <p:cNvSpPr/>
          <p:nvPr/>
        </p:nvSpPr>
        <p:spPr>
          <a:xfrm>
            <a:off x="146160" y="316872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I/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20920" y="5986440"/>
          <a:ext cx="4549680" cy="776160"/>
        </p:xfrm>
        <a:graphic>
          <a:graphicData uri="http://schemas.openxmlformats.org/drawingml/2006/table">
            <a:tbl>
              <a:tblPr/>
              <a:tblGrid>
                <a:gridCol w="279360"/>
                <a:gridCol w="4270320"/>
              </a:tblGrid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 depending on MICs and/or target concent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280" y="1484280"/>
            <a:ext cx="777708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Programma o serie  di interventi diretti al monitoraggio ed all’orientamento dell’utilizzo degli antimicrobici in ospedale, attraverso un approccio standardizzato che sia supportato dall’evidenza al fine di ottenere un uso giudizioso dei farmaci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777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Arial"/>
              </a:rPr>
              <a:t>Antimicrobial Stewardship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692360" y="5692680"/>
            <a:ext cx="6264360" cy="3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amma PD, Cosgrove SE. Infect Dis Clin N Amer 2011; 25: 245-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900000" y="2205000"/>
            <a:ext cx="7415280" cy="2590920"/>
          </a:xfrm>
          <a:prstGeom prst="bevel">
            <a:avLst>
              <a:gd name="adj" fmla="val 12500"/>
            </a:avLst>
          </a:prstGeom>
          <a:solidFill>
            <a:srgbClr val="33ccff"/>
          </a:solidFill>
          <a:ln w="0">
            <a:noFill/>
          </a:ln>
          <a:effectLst>
            <a:outerShdw dist="17819" dir="2700000" blurRad="0" rotWithShape="0">
              <a:srgbClr val="1e799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S: governo della tera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ntimicrob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-1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-1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Arial"/>
              </a:rPr>
              <a:t>Refertazione antibiogramma molecol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2243160"/>
                <a:gridCol w="187164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B MOLECOL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KPC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A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-M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erobatt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za di un gene per carbapenemasi tipo KPC: 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levata probabilità di resistenza a tutti i betallatamici escluso CEFTAZIDIME/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C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DM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A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-M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erobatt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za di un gene per carbapenemasi tipo NDM: 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levata probabilità di resistenza a tutti i betallatamici escluso AZTREONAM (da associare ad avibact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Diagramma 1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8650080" cy="468144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ma 2" descr=""/>
          <p:cNvPicPr/>
          <p:nvPr/>
        </p:nvPicPr>
        <p:blipFill>
          <a:blip r:embed="rId2"/>
          <a:stretch/>
        </p:blipFill>
        <p:spPr>
          <a:xfrm>
            <a:off x="1243080" y="182520"/>
            <a:ext cx="6821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vestire in attività di Antimicrobial Stewardship è probabilmente vantaggioso per i pazienti e per il sist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lavoro di squadra, in particolare uno stretto rapporto con la Microbiologia, è fondamen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venti di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infection control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di prevenzione risultano cruciali per ridurre le infe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asellaDiTesto 3"/>
          <p:cNvSpPr/>
          <p:nvPr/>
        </p:nvSpPr>
        <p:spPr>
          <a:xfrm>
            <a:off x="1643040" y="549360"/>
            <a:ext cx="60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MR control require 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745320" cy="2592360"/>
          </a:xfrm>
          <a:prstGeom prst="rect">
            <a:avLst/>
          </a:prstGeom>
          <a:ln w="0">
            <a:noFill/>
          </a:ln>
        </p:spPr>
      </p:pic>
      <p:pic>
        <p:nvPicPr>
          <p:cNvPr id="221" name="Immagine 2" descr=""/>
          <p:cNvPicPr/>
          <p:nvPr/>
        </p:nvPicPr>
        <p:blipFill>
          <a:blip r:embed="rId2"/>
          <a:stretch/>
        </p:blipFill>
        <p:spPr>
          <a:xfrm>
            <a:off x="2116080" y="2662200"/>
            <a:ext cx="7027920" cy="2782800"/>
          </a:xfrm>
          <a:prstGeom prst="rect">
            <a:avLst/>
          </a:prstGeom>
          <a:ln w="0">
            <a:noFill/>
          </a:ln>
        </p:spPr>
      </p:pic>
      <p:pic>
        <p:nvPicPr>
          <p:cNvPr id="222" name="Immagine 1" descr=""/>
          <p:cNvPicPr/>
          <p:nvPr/>
        </p:nvPicPr>
        <p:blipFill>
          <a:blip r:embed="rId3"/>
          <a:stretch/>
        </p:blipFill>
        <p:spPr>
          <a:xfrm>
            <a:off x="0" y="1341360"/>
            <a:ext cx="92455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sellaDiTesto 1"/>
          <p:cNvSpPr/>
          <p:nvPr/>
        </p:nvSpPr>
        <p:spPr>
          <a:xfrm>
            <a:off x="755640" y="5493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ntimicrobial Stewardship Progra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16720" cy="4938840"/>
          </a:xfrm>
          <a:prstGeom prst="rect">
            <a:avLst/>
          </a:prstGeom>
          <a:ln w="0">
            <a:noFill/>
          </a:ln>
        </p:spPr>
      </p:pic>
      <p:sp>
        <p:nvSpPr>
          <p:cNvPr id="98" name="CasellaDiTesto 4"/>
          <p:cNvSpPr/>
          <p:nvPr/>
        </p:nvSpPr>
        <p:spPr>
          <a:xfrm>
            <a:off x="1476360" y="6273720"/>
            <a:ext cx="739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wrence KL et al.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m J Respir Crit Care Med 2009; 179: 434–43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1835280" y="2637000"/>
            <a:ext cx="1512720" cy="129672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llat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995440" y="409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411080" y="12906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413800" y="26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774160" y="4149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317760" y="6251400"/>
            <a:ext cx="5826240" cy="52560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1" descr=""/>
          <p:cNvPicPr/>
          <p:nvPr/>
        </p:nvPicPr>
        <p:blipFill>
          <a:blip r:embed="rId2"/>
          <a:stretch/>
        </p:blipFill>
        <p:spPr>
          <a:xfrm>
            <a:off x="0" y="952560"/>
            <a:ext cx="9144000" cy="4932360"/>
          </a:xfrm>
          <a:prstGeom prst="rect">
            <a:avLst/>
          </a:prstGeom>
          <a:ln w="0">
            <a:noFill/>
          </a:ln>
        </p:spPr>
      </p:pic>
      <p:sp>
        <p:nvSpPr>
          <p:cNvPr id="106" name="CasellaDiTesto 2"/>
          <p:cNvSpPr/>
          <p:nvPr/>
        </p:nvSpPr>
        <p:spPr>
          <a:xfrm>
            <a:off x="900000" y="333360"/>
            <a:ext cx="76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SP: Process &amp;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280" y="1483920"/>
            <a:ext cx="7777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32720" cy="11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st of interventions considered as pa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of antimicrobial stewardshi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magine 1" descr=""/>
          <p:cNvPicPr/>
          <p:nvPr/>
        </p:nvPicPr>
        <p:blipFill>
          <a:blip r:embed="rId1"/>
          <a:stretch/>
        </p:blipFill>
        <p:spPr>
          <a:xfrm>
            <a:off x="368280" y="1353960"/>
            <a:ext cx="8594640" cy="4659480"/>
          </a:xfrm>
          <a:prstGeom prst="rect">
            <a:avLst/>
          </a:prstGeom>
          <a:ln w="0">
            <a:noFill/>
          </a:ln>
        </p:spPr>
      </p:pic>
      <p:sp>
        <p:nvSpPr>
          <p:cNvPr id="110" name="Ovale 4"/>
          <p:cNvSpPr/>
          <p:nvPr/>
        </p:nvSpPr>
        <p:spPr>
          <a:xfrm flipV="1">
            <a:off x="2216160" y="2245680"/>
            <a:ext cx="254160" cy="268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e 5"/>
          <p:cNvSpPr/>
          <p:nvPr/>
        </p:nvSpPr>
        <p:spPr>
          <a:xfrm flipV="1">
            <a:off x="2343240" y="3548880"/>
            <a:ext cx="253800" cy="268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e 6"/>
          <p:cNvSpPr/>
          <p:nvPr/>
        </p:nvSpPr>
        <p:spPr>
          <a:xfrm flipV="1">
            <a:off x="2355840" y="4015800"/>
            <a:ext cx="254160" cy="268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e 7"/>
          <p:cNvSpPr/>
          <p:nvPr/>
        </p:nvSpPr>
        <p:spPr>
          <a:xfrm flipV="1">
            <a:off x="2355840" y="4788720"/>
            <a:ext cx="254160" cy="268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e 8"/>
          <p:cNvSpPr/>
          <p:nvPr/>
        </p:nvSpPr>
        <p:spPr>
          <a:xfrm flipV="1">
            <a:off x="2343240" y="5340240"/>
            <a:ext cx="253800" cy="26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Antimicrobial stewardship</a:t>
            </a:r>
            <a:br>
              <a:rPr sz="3600"/>
            </a:b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Azienda Ospedaliera Universitaria Pis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1700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otocolli di profilassi periope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D POOL esclusivamente dedicato alle consulenz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Vincolo sulle prescrizioni di alcuni farm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lert system microbiolo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port di resistenza aggregati per gli isolati da emocol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port sul consumo di antibiotici per aree di degenza e repar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Formazione sulla sepsi, su emergenze infettivologiche e infezioni ospedali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Antimicrobial stewardship</a:t>
            </a:r>
            <a:br>
              <a:rPr sz="3600"/>
            </a:b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Azienda Ospedaliera Universitaria Pis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628280"/>
            <a:ext cx="88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ert microbiologici per microorganismi sentinell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Candid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a emocol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C. diffic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RE (fenotipo e genotip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P. aerug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A. baumann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neumococco e Legionella (ur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fluenza, morbillo, parotite, parvoviru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7:04:19Z</dcterms:created>
  <dc:creator>utente</dc:creator>
  <dc:description/>
  <cp:keywords/>
  <dc:language>en-US</dc:language>
  <cp:lastModifiedBy>q a</cp:lastModifiedBy>
  <dcterms:modified xsi:type="dcterms:W3CDTF">2020-05-12T13:54:46Z</dcterms:modified>
  <cp:revision>211</cp:revision>
  <dc:subject/>
  <dc:title>Diapositiva 1</dc:title>
</cp:coreProperties>
</file>